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0615-9CA2-404F-A4F3-0B14F9D1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62F1-DB8D-401E-8143-D6B06BCF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EE8BB-D9D3-4717-BB0D-7DF8B507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20EA2-0CAF-4867-9C2D-449DD741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97D202-FBC1-416E-ACF5-042DD3D8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ACDD5-3B64-4D15-B8BF-7879761E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61E5A4-568A-49F1-9147-1D78D33D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78756A-2C52-4819-9202-B628DCA2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84D19-9C8B-4E92-B686-165CF844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599038-7FA6-413E-98F2-E86588B5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E41A0-C438-4AA0-95BC-CA46BCCC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B30B1-8FA7-47B0-9B15-22D6085D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FB8-D7AB-433C-A197-1E8BD3E4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ABD2A8-1A72-4050-A65E-85C25CDD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B5F7E-A8EB-4AE6-936A-CD7C78DD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81C62-A29C-4F31-B92C-FF65C248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65A7C-0C04-465E-91B0-166589B6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C24D2-CEE1-4C45-9626-ADE04A25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2DBD7E-6638-4325-B092-758B90C6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1BCEF-0B7C-4154-8E61-4F7A9918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FF8C9-94CA-4763-971E-6E91CA84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68234E-D390-4CE0-8E78-5F9CAD39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B0191-84FD-4104-9082-B965DAE1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3685-065F-4396-9813-4DD2929A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EFD8D6-E7E2-4D37-8A30-E9533EEB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4B04E-12FD-4E02-80A3-70BE0997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C372E-3155-4958-A892-148C2269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AF171-4474-4587-9920-5E92BE92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1FB07-CF1F-40D0-8641-48935A26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7A837-E6D1-423E-9A1A-7F6837AF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A8D62-BBBB-42EA-8407-13D2A280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6475E-D2E3-4023-9880-E2696FDD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B5513-7F2F-466B-89F6-35D7A595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8B639-F937-4FC5-A537-B213F4C6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CFAB-9662-4BAF-BEA9-EEFAA4A1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989AF-DCE6-46DB-B7BD-E25C78BE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11D2F-F668-4844-9ECF-0C88DE33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5D05E-6D68-4235-8674-4148F7C1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78E57-DB5B-4BED-8CDC-1E773EE0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AEEDA-B0FC-4514-986A-390462AF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0D71C-E1B0-41FF-A9BA-A92765BC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43463F-1219-498C-B324-6D3F831A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6AB016-4223-496F-9F27-76B8EE02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6E349-F3B7-40FA-8B64-7B3FE54F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9D46CA-AC16-4F03-B206-3F4EBF41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E749-C614-42A8-BFF8-C637A11C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1B993B-8BB7-4F53-BAE4-D6301C0B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7BC5AB-1F88-412C-998E-F87D5726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7A42A-0C3E-4B08-98BD-AD4E21F7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4192E-FB38-4329-B604-FEC3F1BD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230DB-2A78-423A-9A21-1E667782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0982-535A-4875-AE15-83A0B6A2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FA7B-4DA8-4B48-93C8-70C0E9CF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44B2-6D31-41B9-9E6A-F991E447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0604-18DE-4A43-AB8F-5678AC06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391F-A024-4B75-BF11-1F517CCC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634-515D-4382-A94E-D8EA7758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A661-D056-4DE6-A016-E4CC8DB6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C8AB-6E85-4CC9-AB31-330EECFC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B214-3080-4C26-AB54-3F0870CC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CDD8-D799-46D1-B01B-D0E167C9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D9E7-AC83-4B91-A221-A43F9490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3D9A-6EFB-4F33-A3EF-4C1ED666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A7C82-712D-4852-B5D0-E5220A1B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2D897-F998-4A1C-8895-ADF8116E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244D8-C384-4D2C-930E-79A4DFD2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6661C-4808-409C-BDCE-B9E6307F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537-074C-42E0-905C-20DA50D1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77361-B13E-4D03-81EB-0A6EAFA6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99F4B-365B-40A0-828D-4C3BBA78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1C6E9-7C57-4D48-8A94-27560EE8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66008-1E02-4D82-9EC3-F3EA0735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B8270-F100-49AD-ABAF-1AA3BD9C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F6B9C-46A4-4A4A-9409-2F13D084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4BCBF-4A64-4FF1-91A0-0028349B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F6DBA-CA35-476B-9A9C-C5FBA5FE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2628-B82F-40DE-A65E-AE5043AB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A7252-2C86-48B2-B2B6-117A78B6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E43-A541-4914-BF00-CE3D4D77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81636-4905-4928-A9CA-FD5EEA0A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D1EA7-F220-4719-84E6-6A0BA5D4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0F923-EB4A-400D-965A-A72D1098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34791-8BEE-46FD-89DF-CA501C7D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0FEFC-73D8-42F8-9E63-FE84541A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2DC24-EF7E-4AA5-ACD1-C9041940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7D795-A5F7-4652-A948-36E41565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36E17-A23E-4E6D-A56B-635B3C9C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76EFA-D9AB-454D-BEE5-2378A44C0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61AE1-0D52-46A2-99A1-09ABFD97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404-B72A-40A0-89BA-F0A79878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87A70-22CD-49E9-B047-47830743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C07B2-F05C-4890-9252-0DE09E6B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0831A-516D-4A06-9954-309E087A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E7F02-A1C3-4AB4-AB24-0E599555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D7273-06D9-4D7B-A401-24321E84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90301-21F5-46D7-A6CD-8EB79691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83ABD-4D9E-4B73-A6B7-235255C4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DD9F1-41CE-4A71-85B6-7A5C42C4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882EE-22B4-4528-B3E6-B0CA1197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3FC80-D934-4E28-9D00-D3EB7279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F52E-F027-4A1C-B14E-6E831691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921B0-66D4-43C1-B39B-E20A2349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7BB11-EF20-49B9-B7B2-35E9E132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F7505-3FA1-42AF-A31B-2525A6A7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94580-CE18-434D-B87A-7439C399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0AA4E-7AA3-4467-A037-5A9CF86F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72426-C828-454E-B832-B79571D5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B7435-A953-4ABE-AECE-41B12D5A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13978-0292-470A-AB20-F4A1031A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8613E-DC0B-45BE-8E42-CAA3C994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F0FC9-7E79-4D59-841C-C06E4F2A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2A9-E675-46C1-8A47-051E1065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E6111-33F5-4C91-AD5D-91336E7E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722FE-3724-4B8A-85B1-8826BE34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2800D-3E00-4E03-867E-CE84EA24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A515C-80D5-45C6-B855-CAD8EEE0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93772-0877-427D-94A8-630479A7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D46AC-2206-45BA-86A6-EB2CDA6E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BAF2C-25D3-4C41-9805-A57C7E6A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FCD37-A30D-4064-8F7B-6D4799B3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79127-05BF-4B00-AFF8-FABA6521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5F3EC-748A-49B0-A315-6BFA088D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AA3-769A-41AE-BE49-CA79EBD6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ECFA9-5752-4B39-BDF2-89DB28DB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330AE-5880-4CD6-8906-21C15DD2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BC451-8B76-4D94-BC29-D85B0B41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26066-7C64-4AD2-A725-56186307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1D373-3A1F-48BD-B5AD-F25C200C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F41E0-6205-403C-87C9-BC70853D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08344-4090-4FF5-81B0-F3AAB523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C9296-066A-48CB-9AB5-6C286D18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6A6E8-6CC4-48E4-A6B9-41BC62B9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4ADA6-6DAD-447F-9A14-EB0F91D1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127-D10E-4877-BE33-66DF887F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FF20C-B480-4A5D-A597-18FC8A79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D50BE-1EB0-4F8C-B48D-64235EB0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F2627-8881-4234-91B6-A388BE90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BE9D1-55E2-4F0D-88F7-BFAFC44F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7393D-D57E-46EB-A566-824C9547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37464-285A-470E-9E69-006DA4B1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48D9F-1ADB-4B3A-AAD8-2AF42CF4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77DC91-549E-44C8-B25F-80991453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92D57-A9D8-4911-B5D1-8981F15E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74D67-76B1-425D-8319-B4E59FE3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7144-94FE-4860-9574-0274877550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336B-CCA5-4847-9166-B0583EA70A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0EE2-483F-405B-8F11-B77DADB74C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E574-6EB3-4969-AAD2-312E405915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0F22-1A1D-4AB8-9682-0223ADD0B7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66B2-7F2C-46B7-AF5E-BE63F509F4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57B3-0E6F-402E-9D66-78BED30567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42FF-528F-434C-A820-010AD4661D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CA1D-2667-46EA-990E-E04BA3C2F6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070A-A1C5-4AE3-AFED-F86290B5FF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8BB7-C7F8-4C9B-A24C-E453FA4155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8309-C0AC-4960-9AC6-6DA45BBA70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ews.nationalgeographic.com/news/2008/02/080221-nomad-video-vin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AN INTRODUC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Nomadic Herding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 fontScale="95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Where is this activity found in the world?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29200" y="5486400"/>
            <a:ext cx="3581280" cy="57960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Northern Afric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2471400"/>
            <a:ext cx="404172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rid and semiarid, N Africa, Middle East, Central Asia, Mongol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~20% of world’s land area;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~15 million people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Content Placeholder 8" descr="camels.jpg"/>
          <p:cNvPicPr/>
          <p:nvPr/>
        </p:nvPicPr>
        <p:blipFill>
          <a:blip r:embed="rId1"/>
          <a:stretch/>
        </p:blipFill>
        <p:spPr>
          <a:xfrm>
            <a:off x="4952880" y="2819520"/>
            <a:ext cx="3540240" cy="266688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astoral Nomadis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aracteristics of Nomadic Herder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531000" indent="-264600">
              <a:spcBef>
                <a:spcPts val="7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Georgia"/>
              </a:rPr>
              <a:t>Eat mostly grains, not tons meat (more grain as % of diet)</a:t>
            </a:r>
            <a:endParaRPr b="0" lang="en-US" sz="32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7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Georgia"/>
              </a:rPr>
              <a:t>Cultivate crops in a variety of ways (trade, leave some behind to cultivate crops, sow in flooded areas and return later, sedentary/nomadic based on rainfall)</a:t>
            </a:r>
            <a:endParaRPr b="0" lang="en-US" sz="32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7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b86"/>
                </a:solidFill>
                <a:latin typeface="Georgia"/>
              </a:rPr>
              <a:t>Size of herd equates prestige; territoriality respected</a:t>
            </a:r>
            <a:endParaRPr b="0" lang="en-US" sz="3200" spc="-1" strike="noStrike">
              <a:solidFill>
                <a:srgbClr val="646b86"/>
              </a:solidFill>
              <a:latin typeface="Georgia"/>
            </a:endParaRPr>
          </a:p>
          <a:p>
            <a:pPr marL="264600" indent="-26460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nimals Herd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fferent animals in different climates and with different cultur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Camel, sheep and goats (N Africa/ME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Horse (C Asia/Mongolia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17" name="Picture 3" descr="GoatHerd.jpg"/>
          <p:cNvPicPr/>
          <p:nvPr/>
        </p:nvPicPr>
        <p:blipFill>
          <a:blip r:embed="rId1"/>
          <a:stretch/>
        </p:blipFill>
        <p:spPr>
          <a:xfrm>
            <a:off x="304920" y="3505320"/>
            <a:ext cx="2971800" cy="24876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goats.jpg"/>
          <p:cNvPicPr/>
          <p:nvPr/>
        </p:nvPicPr>
        <p:blipFill>
          <a:blip r:embed="rId2"/>
          <a:stretch/>
        </p:blipFill>
        <p:spPr>
          <a:xfrm>
            <a:off x="2819520" y="4495680"/>
            <a:ext cx="3047760" cy="20322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5" descr="horses.jpg"/>
          <p:cNvPicPr/>
          <p:nvPr/>
        </p:nvPicPr>
        <p:blipFill>
          <a:blip r:embed="rId3"/>
          <a:stretch/>
        </p:blipFill>
        <p:spPr>
          <a:xfrm>
            <a:off x="5181480" y="2971800"/>
            <a:ext cx="35053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Nomads know where to go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rritory traveled is precise, respected by other nomadic trib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igratory patterns are based on intimate knowledge of land and rainfall patterns (can also be influenced by political situations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 Future of Pastoral Nomad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mads are no longer the most important conveyors of goods/info; being replaced with technolog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ced resettlement efforts in China, C Asia, Middle East to use land for other purposes (mining, oil, irrigated farmland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mate Chang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NAT GE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3" descr="reindeer.jpg"/>
          <p:cNvPicPr/>
          <p:nvPr/>
        </p:nvPicPr>
        <p:blipFill>
          <a:blip r:embed="rId2"/>
          <a:stretch/>
        </p:blipFill>
        <p:spPr>
          <a:xfrm>
            <a:off x="4038480" y="4038480"/>
            <a:ext cx="30481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46:41Z</dcterms:created>
  <dc:creator>hberndt</dc:creator>
  <dc:description/>
  <dc:language>en-US</dc:language>
  <cp:lastModifiedBy>hberndt</cp:lastModifiedBy>
  <dcterms:modified xsi:type="dcterms:W3CDTF">2010-04-28T12:31:39Z</dcterms:modified>
  <cp:revision>4</cp:revision>
  <dc:subject/>
  <dc:title>Nomadic Herding</dc:title>
</cp:coreProperties>
</file>